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D0D-BE6C-42BE-9195-25C201B3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D1F-4A9A-42BF-AF67-45D2FDAC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265-C7E0-4A34-8F01-C77FC9D8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51D-3465-46D7-AF2E-13B6A059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0A6-DD54-4A68-9517-EF88D42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D88-1D1C-4CA4-9618-648ADF48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93A-D24A-4307-A48C-1254C93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0C9-1481-4B53-9EE9-59365F87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C56-35A8-4BDA-8887-E34F635F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395-7669-477E-868D-BDF586B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D59-8EB0-4DFC-A1D7-03F81F6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308-5EF9-4026-8266-35D9750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434-7FAD-42BA-80CE-2988CA208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imSun"/>
              </a:rPr>
              <a:t>Proper Keyboarding Techni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oper keyboarding technique include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Pos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Arm and Hand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rrect Keystroking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ne straight leaning slightly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ed in front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fortable distance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t on floor, slightly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Jam010"/>
          <p:cNvPicPr/>
          <p:nvPr/>
        </p:nvPicPr>
        <p:blipFill>
          <a:blip r:embed="rId1"/>
          <a:stretch/>
        </p:blipFill>
        <p:spPr>
          <a:xfrm>
            <a:off x="762120" y="182880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m and Hand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relaxed; elbows naturally close to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s nearly parallel with slope of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Jam004"/>
          <p:cNvPicPr/>
          <p:nvPr/>
        </p:nvPicPr>
        <p:blipFill>
          <a:blip r:embed="rId1"/>
          <a:stretch/>
        </p:blipFill>
        <p:spPr>
          <a:xfrm>
            <a:off x="457200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sts and Fi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curved, tips of fingers resting lightly 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sts low, but palms of hands not resting on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s and wrists "quiet," almost mo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9"/>
          <p:cNvGraphicFramePr/>
          <p:nvPr/>
        </p:nvGraphicFramePr>
        <p:xfrm>
          <a:off x="4952880" y="1828800"/>
          <a:ext cx="3360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28800"/>
                    <a:ext cx="3360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50000">
              <a:srgbClr val="ccffff"/>
            </a:gs>
            <a:gs pos="100000">
              <a:srgbClr val="5e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 Keystro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tips of your fingers to operate the assigned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circular, pecking motion (down and in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finger"/>
          <p:cNvPicPr/>
          <p:nvPr/>
        </p:nvPicPr>
        <p:blipFill>
          <a:blip r:embed="rId1"/>
          <a:stretch/>
        </p:blipFill>
        <p:spPr>
          <a:xfrm>
            <a:off x="685800" y="2470320"/>
            <a:ext cx="380988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DO THI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type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make fewer mista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able to type longer without getting as t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be less likely that you will have health problems with your hands and w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ORTH THE EFFOR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BD00005_"/>
          <p:cNvPicPr/>
          <p:nvPr/>
        </p:nvPicPr>
        <p:blipFill>
          <a:blip r:embed="rId1"/>
          <a:stretch/>
        </p:blipFill>
        <p:spPr>
          <a:xfrm>
            <a:off x="4038480" y="2819520"/>
            <a:ext cx="1603440" cy="16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D00005_"/>
          <p:cNvPicPr/>
          <p:nvPr/>
        </p:nvPicPr>
        <p:blipFill>
          <a:blip r:embed="rId2"/>
          <a:stretch/>
        </p:blipFill>
        <p:spPr>
          <a:xfrm>
            <a:off x="2743200" y="2209680"/>
            <a:ext cx="3675240" cy="370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23:00:11Z</dcterms:created>
  <dc:creator>Inst </dc:creator>
  <dc:description/>
  <dc:language>en-US</dc:language>
  <cp:lastModifiedBy>mrank</cp:lastModifiedBy>
  <dcterms:modified xsi:type="dcterms:W3CDTF">2009-08-15T01:34:32Z</dcterms:modified>
  <cp:revision>11</cp:revision>
  <dc:subject/>
  <dc:title>Proper Keyboarding Technique</dc:title>
</cp:coreProperties>
</file>